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69486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EAE-2483-4569-8F97-20782DE5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905508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8600" y="4251960"/>
            <a:ext cx="905508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F18-19DD-4159-B4B7-65DF2AF0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60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864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C84-23B1-4604-A510-9FEAC680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0400" y="178740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2200" y="178740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8600" y="425196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0400" y="425196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2200" y="425196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572-EB7E-4384-A815-88B22C14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1B6F-8C5F-4DF8-985A-3F7EEF9A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8600" y="1787400"/>
            <a:ext cx="905508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FD3-36E6-4B2D-B5AD-6456EEE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905508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1668-1512-4351-89CA-5F85651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8437-42BF-4489-A5CD-C2C443C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02F-B555-4CE1-8944-C4C23B35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8600" y="244080"/>
            <a:ext cx="90219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7B53-1BF9-418D-9593-D15C108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860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A8CF-E96C-4B82-9090-7E2066C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8600" y="1787400"/>
            <a:ext cx="905508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E4A-2EFE-47F0-8823-28C82887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864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3DBB-F715-4F9F-A768-638C8D0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600" y="4251960"/>
            <a:ext cx="905508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5AC-7AF5-435B-8B43-3F97EA2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905508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600" y="4251960"/>
            <a:ext cx="905508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6F99-89C1-4165-8BB9-083878E3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860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864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E3DC-5F25-4A67-826C-1970B1F7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0" y="178740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2200" y="178740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8600" y="425196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0400" y="425196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2200" y="4251960"/>
            <a:ext cx="2915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0E8-5CF3-47EF-9E16-E6DC2F17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905508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D05-69E6-4395-8B6E-6269A47C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5E7-CE29-4C19-96B4-91EBE7A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813-BF92-47A7-B37F-CF9C0563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8600" y="244080"/>
            <a:ext cx="90219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3F3-5418-461B-98E7-693CD668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860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8EA-FD28-4695-8DD2-138FA86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8640" y="425196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5AF-536B-453B-A2D9-443B686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60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8640" y="1787400"/>
            <a:ext cx="441864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8600" y="4251960"/>
            <a:ext cx="9055080" cy="225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D78-D0A3-4749-802C-FA37297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787400"/>
            <a:ext cx="9055080" cy="471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0348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214280" indent="-24264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700280" indent="-24300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185920" indent="-24264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185920" indent="-24264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185920" indent="-24264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3640" y="6660720"/>
            <a:ext cx="2422440" cy="507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660720"/>
            <a:ext cx="3070080" cy="507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660720"/>
            <a:ext cx="2422440" cy="507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0163973-02C9-423C-975F-633E73F797AD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7200" y="2112480"/>
            <a:ext cx="8238960" cy="1706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23640" y="6660720"/>
            <a:ext cx="2422440" cy="507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11640" y="6660720"/>
            <a:ext cx="3070080" cy="507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46560" y="6660720"/>
            <a:ext cx="2422440" cy="507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604412C-40C6-4C9B-A736-0E5B56A3D296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84560" y="1711440"/>
            <a:ext cx="87249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85640" indent="0" algn="ctr">
              <a:spcBef>
                <a:spcPts val="751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71640" algn="ctr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457280" algn="ctr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1943280" algn="ctr"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194328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194328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ps.gov/" TargetMode="External"/><Relationship Id="rId3" Type="http://schemas.openxmlformats.org/officeDocument/2006/relationships/hyperlink" Target="http://www.sonofthesouth.net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151920"/>
            <a:ext cx="8238960" cy="156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b7e7ff"/>
                </a:solidFill>
                <a:latin typeface="Arial"/>
              </a:rPr>
              <a:t>The Battle of Cold Harbor</a:t>
            </a: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41000" y="1371600"/>
            <a:ext cx="6946920" cy="3276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battle’s location was Hanover Countr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took place May 31 – June 12, 1864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battle started when Sheridan's cavalry seized      the vital crossroads of Cold Harbo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eridan’s troops were out numbered when confederate reinforcements arrived from Richmon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en both armies were on the field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formed a 7 mile fro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18280" y="3886200"/>
            <a:ext cx="3276720" cy="328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89080" y="46483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44080"/>
            <a:ext cx="9021960" cy="1413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5400" y="7617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oth armies fought on that 7 mile front until July 12, when grant marched his army to the south side of the James Riv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ir loss in this engagement was reported at 13,153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f whom, 1,705 were killed and 2,406 were miss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fter the battle, Sheridan destroyed the railways in Lee’s rear, making Washington more secure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confederates won the battle of Cold Harbo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urces: </a:t>
            </a:r>
            <a:r>
              <a:rPr b="0" lang="en-US" sz="21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nps.go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sonofthesouth.ne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13160" y="3809880"/>
            <a:ext cx="50770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01:08:26Z</dcterms:created>
  <dc:creator>Valued User</dc:creator>
  <dc:description/>
  <dc:language>en-US</dc:language>
  <cp:lastModifiedBy>Valued User</cp:lastModifiedBy>
  <dcterms:modified xsi:type="dcterms:W3CDTF">2011-09-13T02:02:32Z</dcterms:modified>
  <cp:revision>3</cp:revision>
  <dc:subject/>
  <dc:title>The Battle of Cold Harbor</dc:title>
</cp:coreProperties>
</file>